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756-6DAD-49F7-9843-66235743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0DF-5E52-43B5-AF31-94B78279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1A6-CF87-4FE8-B9BC-F577CD5D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571-1451-4903-9692-C8F03D4F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EAE8-5C5D-4774-B4DB-2BFE5692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815E-5039-4E26-8FFD-F7FCD0F8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7A1B-2E6B-44A2-B7AF-CA54F6C1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4B86-78B5-44AD-9662-978CD97B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69D4-CB29-47D6-A590-77F1035F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D80A-088F-4468-A6B7-8A4233F0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1282-6BBD-4600-BE9E-B29AEDE7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2EB-4935-4BDA-B470-7A1689C7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CE98-2FF4-40BD-8238-39898A80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296E-96E7-4495-B22E-E8105315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F323-5CA3-4480-95E1-46519B1A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7FB3-3CD3-491A-AD2F-DFF82772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1D23-B9F0-4794-B430-946F1B9A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BBE-D658-47C2-B343-960B5F93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200-293B-4AEB-B140-9658C598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388-7C2E-4D16-9236-0BB48988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992-0E7C-4301-8B59-A6C65EAD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F3F-5168-456D-8F18-5002B675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8CB-C841-4AB0-84EA-F1981988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639-2631-44A9-996A-2E79BB3D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EDFA-AA95-41BA-B568-C79D3E06752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EB08-CF88-4B73-AABE-3C79350A986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11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6633"/>
                </a:solidFill>
                <a:latin typeface="Arial"/>
                <a:ea typeface="Arial"/>
              </a:rPr>
              <a:t>Составные </a:t>
            </a:r>
            <a:br>
              <a:rPr sz="6300"/>
            </a:br>
            <a:r>
              <a:rPr b="0" lang="en-US" sz="6300" spc="-1" strike="noStrike">
                <a:solidFill>
                  <a:srgbClr val="006633"/>
                </a:solidFill>
                <a:latin typeface="Arial"/>
                <a:ea typeface="Arial"/>
              </a:rPr>
              <a:t>текстовые задачи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Скругленный прямоугольник 7"/>
          <p:cNvSpPr/>
          <p:nvPr/>
        </p:nvSpPr>
        <p:spPr>
          <a:xfrm>
            <a:off x="3071880" y="4508640"/>
            <a:ext cx="30002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49019"/>
                </a:srgbClr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3b812f"/>
            </a:solidFill>
            <a:miter/>
          </a:ln>
          <a:effectLst>
            <a:outerShdw dist="17819" dir="2700000" blurRad="0" rotWithShape="0">
              <a:srgbClr val="234d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2060640"/>
            <a:ext cx="45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66920" y="3068640"/>
            <a:ext cx="64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5661000"/>
            <a:ext cx="396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В.В. Его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viki.rdf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05264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 Закладывая сад, посадили 20 яблонь, груш на 10 меньше, чем яблонь, а слив столько, сколько яблонь и груш вместе. Сколько слив посадили в этом са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3"/>
          <p:cNvSpPr/>
          <p:nvPr/>
        </p:nvSpPr>
        <p:spPr>
          <a:xfrm>
            <a:off x="250920" y="501336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30 (с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>
            <a:off x="2571840" y="414972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25 (с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5"/>
          <p:cNvSpPr/>
          <p:nvPr/>
        </p:nvSpPr>
        <p:spPr>
          <a:xfrm>
            <a:off x="324000" y="342900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15 (с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333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бери правильны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394020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8920" y="90756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 На большой фотографии Катя насчитала 6 взрослых человек, а детей на 4 больше. Сколько всего человек было на этой фотограф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3"/>
          <p:cNvSpPr/>
          <p:nvPr/>
        </p:nvSpPr>
        <p:spPr>
          <a:xfrm>
            <a:off x="684360" y="429264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16 (ч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4"/>
          <p:cNvSpPr/>
          <p:nvPr/>
        </p:nvSpPr>
        <p:spPr>
          <a:xfrm>
            <a:off x="3571920" y="270828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10 (ч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6443640" y="429264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14 (ч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333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бери правильны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497400" y="4076640"/>
            <a:ext cx="214920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980640"/>
            <a:ext cx="48355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У брата было 7 орехов и несколько орехов у сестры. После того, как брат отдал сестре 2 ореха, орехов у них стало поровну. Сколько орехов было у сестры сначал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3"/>
          <p:cNvSpPr/>
          <p:nvPr/>
        </p:nvSpPr>
        <p:spPr>
          <a:xfrm>
            <a:off x="3571920" y="501336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3 (о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4"/>
          <p:cNvSpPr/>
          <p:nvPr/>
        </p:nvSpPr>
        <p:spPr>
          <a:xfrm>
            <a:off x="468360" y="501336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2 (о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5"/>
          <p:cNvSpPr/>
          <p:nvPr/>
        </p:nvSpPr>
        <p:spPr>
          <a:xfrm>
            <a:off x="6659640" y="501336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1 (о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19280" y="333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бери правильны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401796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  <a:ea typeface="Arial"/>
              </a:rPr>
              <a:t>Результат тес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999800"/>
            <a:ext cx="590076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Верно: 10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2 мин. 7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6516720" y="5445000"/>
            <a:ext cx="228600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49019"/>
                </a:srgbClr>
              </a:gs>
              <a:gs pos="100000">
                <a:srgbClr val="ffffcc">
                  <a:alpha val="49019"/>
                </a:srgbClr>
              </a:gs>
            </a:gsLst>
            <a:lin ang="5400000"/>
          </a:gradFill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 hidden="1"/>
          <p:cNvSpPr/>
          <p:nvPr/>
        </p:nvSpPr>
        <p:spPr>
          <a:xfrm>
            <a:off x="6516720" y="443700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0">
            <a:noFill/>
          </a:ln>
          <a:effectLst>
            <a:outerShdw dist="17819" dir="2700000" blurRad="0" rotWithShape="0">
              <a:srgbClr val="6200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83664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И. Волкова, И.С. Ордынцева. Математика. Тесты. 2 класс. М.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22200" y="980640"/>
            <a:ext cx="5834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В новогодней гирлянде 90 фонариков: большие , средние и маленькие. Больших фонариков 30, средних 20. Сколько маленьких фонариков в гирлян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4859280" y="4508640"/>
            <a:ext cx="388944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30 + 20 = 50(ф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90 – 50 = 40 (ф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395280" y="4508640"/>
            <a:ext cx="388764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1372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30 – 20 = 10 (ф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90 – 10 = 80 (ф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333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бери правильное 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940360" y="476280"/>
            <a:ext cx="30164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Скругленный прямоугольник 3"/>
          <p:cNvSpPr/>
          <p:nvPr/>
        </p:nvSpPr>
        <p:spPr>
          <a:xfrm>
            <a:off x="611280" y="5013360"/>
            <a:ext cx="33843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4 + 3 = 7 (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7 + 6 = 13 (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4"/>
          <p:cNvSpPr/>
          <p:nvPr/>
        </p:nvSpPr>
        <p:spPr>
          <a:xfrm>
            <a:off x="611280" y="3429000"/>
            <a:ext cx="33843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1372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4 + 3 = 7 (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7 – 6 = 1 (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5"/>
          <p:cNvSpPr/>
          <p:nvPr/>
        </p:nvSpPr>
        <p:spPr>
          <a:xfrm>
            <a:off x="5148360" y="5013360"/>
            <a:ext cx="33130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1372"/>
                </a:srgbClr>
              </a:gs>
              <a:gs pos="100000">
                <a:srgbClr val="ffffcc">
                  <a:alpha val="51372"/>
                </a:srgbClr>
              </a:gs>
            </a:gsLst>
            <a:lin ang="5400000"/>
          </a:gradFill>
          <a:ln w="255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4 – 3 = 1 (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1 + 6 = 7 (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1480" y="907920"/>
            <a:ext cx="864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Для школьного спектакля надо было сшить несколько костюмов. В понедельник сшили 4 костюма, во вторник 3. После этого осталось сшить ещё 6 костюмов. Сколько всего костюмов надо было сшить для спектакл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333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бери правильное 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64000" y="2666880"/>
            <a:ext cx="3294360" cy="23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В вазе было 5 красных яблок, а жёлтых – на 2 яблока больше. Сколько всего яблок было в ваз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3"/>
          <p:cNvSpPr/>
          <p:nvPr/>
        </p:nvSpPr>
        <p:spPr>
          <a:xfrm>
            <a:off x="5364000" y="5013360"/>
            <a:ext cx="34578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  <a:ea typeface="Arial"/>
              </a:rPr>
              <a:t>5 + 2 = 7 (яб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  <a:ea typeface="Arial"/>
              </a:rPr>
              <a:t>5 + 7 = 12 (яб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4"/>
          <p:cNvSpPr/>
          <p:nvPr/>
        </p:nvSpPr>
        <p:spPr>
          <a:xfrm>
            <a:off x="468360" y="5013360"/>
            <a:ext cx="32097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1372"/>
                </a:srgbClr>
              </a:gs>
              <a:gs pos="100000">
                <a:srgbClr val="ffffcc">
                  <a:alpha val="51372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  <a:ea typeface="Arial"/>
              </a:rPr>
              <a:t>5 – 2 = 3 (яб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  <a:ea typeface="Arial"/>
              </a:rPr>
              <a:t>5 + 3 = 8 (яб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608200" y="1962000"/>
            <a:ext cx="3927600" cy="2932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19280" y="333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бери правильное 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9079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В пенале было 7 красных карандашей, а синих на 3 карандаша меньше. Сколько всего карандашей было в пена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3"/>
          <p:cNvSpPr/>
          <p:nvPr/>
        </p:nvSpPr>
        <p:spPr>
          <a:xfrm>
            <a:off x="900000" y="3429000"/>
            <a:ext cx="30956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7 – 3 = 4 (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7 + 4 = 11 (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4"/>
          <p:cNvSpPr/>
          <p:nvPr/>
        </p:nvSpPr>
        <p:spPr>
          <a:xfrm>
            <a:off x="900000" y="5013360"/>
            <a:ext cx="30956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7 + 3 = 10 (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10 + 7 (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333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бери правильное 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8720" y="2997360"/>
            <a:ext cx="2857320" cy="26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95280" y="907920"/>
            <a:ext cx="8291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В вазе было 20 конфет. Сначала Валя съела несколько конфет, а затем Юра съел 4 конфеты. После этого в вазе осталось 13 конфет. Сколько конфет съела Ва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5580000" y="5013360"/>
            <a:ext cx="3168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13 + 4 = 17 (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20 – 17 (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4"/>
          <p:cNvSpPr/>
          <p:nvPr/>
        </p:nvSpPr>
        <p:spPr>
          <a:xfrm>
            <a:off x="5580000" y="3429000"/>
            <a:ext cx="3168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13 – 4 = 9 (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20 – 9 = 11 (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333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бери правильное 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468000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014560" y="1700280"/>
            <a:ext cx="5113440" cy="3776760"/>
          </a:xfrm>
          <a:prstGeom prst="rect">
            <a:avLst/>
          </a:prstGeom>
          <a:ln w="0">
            <a:noFill/>
          </a:ln>
        </p:spPr>
      </p:pic>
      <p:sp>
        <p:nvSpPr>
          <p:cNvPr id="123" name="Скругленный прямоугольник 3"/>
          <p:cNvSpPr/>
          <p:nvPr/>
        </p:nvSpPr>
        <p:spPr>
          <a:xfrm>
            <a:off x="3571920" y="501336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15 (ф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4"/>
          <p:cNvSpPr/>
          <p:nvPr/>
        </p:nvSpPr>
        <p:spPr>
          <a:xfrm>
            <a:off x="468360" y="501336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30 (ф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6659640" y="501336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20 (ф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333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бери правильны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81000"/>
            <a:ext cx="8748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В большом городе было 10 театров, музеев на 5 меньше, чем театров, а фонтанов столько, сколько театров и музеев вместе. Сколько фонтанов было в этом го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980640"/>
            <a:ext cx="82915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 За один день в лечебнице для животных на приёме побывало 20 собак, а кошек на 10 больше. Сколько всего животных было в этот день в лечебниц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3"/>
          <p:cNvSpPr/>
          <p:nvPr/>
        </p:nvSpPr>
        <p:spPr>
          <a:xfrm>
            <a:off x="6588000" y="501336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(50 ж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4"/>
          <p:cNvSpPr/>
          <p:nvPr/>
        </p:nvSpPr>
        <p:spPr>
          <a:xfrm>
            <a:off x="539640" y="5013360"/>
            <a:ext cx="2000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30 (ж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5"/>
          <p:cNvSpPr/>
          <p:nvPr/>
        </p:nvSpPr>
        <p:spPr>
          <a:xfrm>
            <a:off x="3571920" y="5013360"/>
            <a:ext cx="20001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bf39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  <a:ea typeface="Arial"/>
              </a:rPr>
              <a:t>(40 ж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333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бери правильны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96000" y="3141720"/>
            <a:ext cx="2309760" cy="1395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619280" y="2708280"/>
            <a:ext cx="2225520" cy="2173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Vera</cp:lastModifiedBy>
  <dcterms:modified xsi:type="dcterms:W3CDTF">2008-03-22T21:59:32Z</dcterms:modified>
  <cp:revision>535</cp:revision>
  <dc:subject/>
  <dc:title>Слайд 1</dc:title>
</cp:coreProperties>
</file>