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12D-E82D-42A4-9289-2960D7B1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CA9-4940-46D6-8013-66A00AC7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FE0-C4FE-455B-AC02-97DC7052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8B3-7B67-450F-858C-6D1BA590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FDB-E0B8-4063-BAED-35F46A4C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440-1989-40B3-B5FA-1BD6D16E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E6D-68D7-4E77-A415-9E762256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194-7E76-44AF-99B9-94055B4F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2CC-2D6F-49CB-AD6C-A7D46BC5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94A-1216-4C10-9457-1375DF0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0E4-04C9-4AAB-AAC9-FB77CB3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A4A-747C-4886-8526-E3AD6341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5907-6C5C-4768-8C63-9EDB63F58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одержимое 2"/>
          <p:cNvSpPr/>
          <p:nvPr/>
        </p:nvSpPr>
        <p:spPr>
          <a:xfrm>
            <a:off x="826920" y="6165720"/>
            <a:ext cx="6804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Для продолжения кликни на рыб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87280" y="404640"/>
            <a:ext cx="69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На рыбалке.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30320" y="2349360"/>
            <a:ext cx="2722320" cy="3672000"/>
            <a:chOff x="130320" y="2349360"/>
            <a:chExt cx="2722320" cy="3672000"/>
          </a:xfrm>
        </p:grpSpPr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130320" y="2349360"/>
              <a:ext cx="2050920" cy="36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050920" y="4724280"/>
              <a:ext cx="801720" cy="12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2987640" y="3141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ила: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ШЕВЦОВА С.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учитель начальных классов                                               МОУ СОШ №49 г. Волго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4149720"/>
            <a:ext cx="523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втор иллюстра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авченко Е.М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ОУ гимназия №1, г. Полярные Зори,              Мурманская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7524720" y="4869000"/>
            <a:ext cx="1440000" cy="1873080"/>
          </a:xfrm>
          <a:custGeom>
            <a:avLst/>
            <a:gdLst>
              <a:gd name="textAreaLeft" fmla="*/ 93240 w 1440000"/>
              <a:gd name="textAreaRight" fmla="*/ 1346760 w 1440000"/>
              <a:gd name="textAreaTop" fmla="*/ 93240 h 1873080"/>
              <a:gd name="textAreaBottom" fmla="*/ 1779840 h 1873080"/>
            </a:gdLst>
            <a:ahLst/>
            <a:rect l="textAreaLeft" t="textAreaTop" r="textAreaRight" b="textAreaBottom"/>
            <a:pathLst>
              <a:path w="21600" h="28095">
                <a:moveTo>
                  <a:pt x="0" y="0"/>
                </a:moveTo>
                <a:lnTo>
                  <a:pt x="21600" y="0"/>
                </a:lnTo>
                <a:lnTo>
                  <a:pt x="21600" y="28095"/>
                </a:lnTo>
                <a:lnTo>
                  <a:pt x="0" y="28095"/>
                </a:lnTo>
                <a:close/>
              </a:path>
              <a:path fill="lightenLess" w="21600" h="28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95">
                <a:moveTo>
                  <a:pt x="21600" y="0"/>
                </a:moveTo>
                <a:lnTo>
                  <a:pt x="21600" y="28095"/>
                </a:lnTo>
                <a:lnTo>
                  <a:pt x="20200" y="26695"/>
                </a:lnTo>
                <a:lnTo>
                  <a:pt x="20200" y="1400"/>
                </a:lnTo>
                <a:close/>
              </a:path>
              <a:path fill="darkenLess" w="21600" h="28095">
                <a:moveTo>
                  <a:pt x="21600" y="28095"/>
                </a:moveTo>
                <a:lnTo>
                  <a:pt x="0" y="28095"/>
                </a:lnTo>
                <a:lnTo>
                  <a:pt x="1400" y="26695"/>
                </a:lnTo>
                <a:lnTo>
                  <a:pt x="20200" y="26695"/>
                </a:lnTo>
                <a:close/>
              </a:path>
              <a:path fill="lighten" w="21600" h="28095">
                <a:moveTo>
                  <a:pt x="0" y="28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9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196040" y="4572000"/>
            <a:ext cx="1816200" cy="210348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7162920" y="4572000"/>
            <a:ext cx="1981080" cy="2286000"/>
          </a:xfrm>
          <a:custGeom>
            <a:avLst/>
            <a:gdLst>
              <a:gd name="textAreaLeft" fmla="*/ 128160 w 1981080"/>
              <a:gd name="textAreaRight" fmla="*/ 1852920 w 1981080"/>
              <a:gd name="textAreaTop" fmla="*/ 128160 h 2286000"/>
              <a:gd name="textAreaBottom" fmla="*/ 2157840 h 2286000"/>
            </a:gdLst>
            <a:ahLst/>
            <a:rect l="textAreaLeft" t="textAreaTop" r="textAreaRight" b="textAreaBottom"/>
            <a:pathLst>
              <a:path w="21600" h="24924">
                <a:moveTo>
                  <a:pt x="0" y="0"/>
                </a:moveTo>
                <a:lnTo>
                  <a:pt x="21600" y="0"/>
                </a:lnTo>
                <a:lnTo>
                  <a:pt x="21600" y="24924"/>
                </a:lnTo>
                <a:lnTo>
                  <a:pt x="0" y="24924"/>
                </a:lnTo>
                <a:close/>
              </a:path>
              <a:path fill="lightenLess" w="21600" h="24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24">
                <a:moveTo>
                  <a:pt x="21600" y="0"/>
                </a:moveTo>
                <a:lnTo>
                  <a:pt x="21600" y="24924"/>
                </a:lnTo>
                <a:lnTo>
                  <a:pt x="20200" y="23524"/>
                </a:lnTo>
                <a:lnTo>
                  <a:pt x="20200" y="1400"/>
                </a:lnTo>
                <a:close/>
              </a:path>
              <a:path fill="darkenLess" w="21600" h="24924">
                <a:moveTo>
                  <a:pt x="21600" y="24924"/>
                </a:moveTo>
                <a:lnTo>
                  <a:pt x="0" y="24924"/>
                </a:lnTo>
                <a:lnTo>
                  <a:pt x="1400" y="23524"/>
                </a:lnTo>
                <a:lnTo>
                  <a:pt x="20200" y="23524"/>
                </a:lnTo>
                <a:close/>
              </a:path>
              <a:path fill="lighten" w="21600" h="24924">
                <a:moveTo>
                  <a:pt x="0" y="24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21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21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flipH="1">
            <a:off x="2971440" y="44956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7 - 7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44520" y="3505320"/>
            <a:ext cx="2398680" cy="2178000"/>
            <a:chOff x="344520" y="3505320"/>
            <a:chExt cx="2398680" cy="2178000"/>
          </a:xfrm>
        </p:grpSpPr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 flipH="1">
              <a:off x="344520" y="350532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600200" y="45720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343400" y="5486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142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23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23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 flipH="1">
            <a:off x="304560" y="42670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9 - 8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276720" y="4114800"/>
            <a:ext cx="2398680" cy="2178000"/>
            <a:chOff x="3276720" y="4114800"/>
            <a:chExt cx="2398680" cy="2178000"/>
          </a:xfrm>
        </p:grpSpPr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 flipH="1">
              <a:off x="3276720" y="411480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532400" y="518148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600200" y="53341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C 0.02709 -0.08172 0.05417 -0.1632 0.09549 -0.24885 C 0.13698 -0.33449 0.1849 -0.45741 0.24914 -0.51412 C 0.31337 -0.57084 0.41806 -0.59676 0.48021 -0.58959 C 0.54254 -0.58241 0.59653 -0.52315 0.62396 -0.47107 C 0.65139 -0.41898 0.64202 -0.30949 0.64566 -0.27709 E">
                                      <p:cBhvr>
                                        <p:cTn id="15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25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25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 flipH="1">
            <a:off x="2971440" y="44956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 + 4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44520" y="3505320"/>
            <a:ext cx="2398680" cy="2178000"/>
            <a:chOff x="344520" y="3505320"/>
            <a:chExt cx="2398680" cy="2178000"/>
          </a:xfrm>
        </p:grpSpPr>
        <p:pic>
          <p:nvPicPr>
            <p:cNvPr id="267" name="" descr=""/>
            <p:cNvPicPr/>
            <p:nvPr/>
          </p:nvPicPr>
          <p:blipFill>
            <a:blip r:embed="rId4"/>
            <a:stretch/>
          </p:blipFill>
          <p:spPr>
            <a:xfrm flipH="1">
              <a:off x="344520" y="350532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600200" y="45720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343400" y="5486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176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27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27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 flipH="1">
            <a:off x="2971440" y="44956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 + 4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44520" y="3505320"/>
            <a:ext cx="2398680" cy="2178000"/>
            <a:chOff x="344520" y="3505320"/>
            <a:chExt cx="2398680" cy="2178000"/>
          </a:xfrm>
        </p:grpSpPr>
        <p:pic>
          <p:nvPicPr>
            <p:cNvPr id="287" name="" descr=""/>
            <p:cNvPicPr/>
            <p:nvPr/>
          </p:nvPicPr>
          <p:blipFill>
            <a:blip r:embed="rId4"/>
            <a:stretch/>
          </p:blipFill>
          <p:spPr>
            <a:xfrm flipH="1">
              <a:off x="344520" y="350532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600200" y="45720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343400" y="5486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193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29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29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 flipH="1">
            <a:off x="304560" y="42670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7 - 0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276720" y="4114800"/>
            <a:ext cx="2398680" cy="2178000"/>
            <a:chOff x="3276720" y="4114800"/>
            <a:chExt cx="2398680" cy="2178000"/>
          </a:xfrm>
        </p:grpSpPr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 flipH="1">
              <a:off x="3276720" y="411480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532400" y="518148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600200" y="53341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C 0.02709 -0.08172 0.05417 -0.1632 0.09549 -0.24885 C 0.13698 -0.33449 0.1849 -0.45741 0.24914 -0.51412 C 0.31337 -0.57084 0.41806 -0.59676 0.48021 -0.58959 C 0.54254 -0.58241 0.59653 -0.52315 0.62396 -0.47107 C 0.65139 -0.41898 0.64202 -0.30949 0.64566 -0.27709 E">
                                      <p:cBhvr>
                                        <p:cTn id="210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31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31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 flipH="1">
            <a:off x="2971440" y="44956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 + 3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44520" y="3505320"/>
            <a:ext cx="2398680" cy="2178000"/>
            <a:chOff x="344520" y="3505320"/>
            <a:chExt cx="2398680" cy="2178000"/>
          </a:xfrm>
        </p:grpSpPr>
        <p:pic>
          <p:nvPicPr>
            <p:cNvPr id="327" name="" descr=""/>
            <p:cNvPicPr/>
            <p:nvPr/>
          </p:nvPicPr>
          <p:blipFill>
            <a:blip r:embed="rId4"/>
            <a:stretch/>
          </p:blipFill>
          <p:spPr>
            <a:xfrm flipH="1">
              <a:off x="344520" y="350532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600200" y="45720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419720" y="5410080"/>
            <a:ext cx="1143000" cy="106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227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33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33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 flipH="1">
            <a:off x="2971440" y="44956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 + 7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44520" y="3505320"/>
            <a:ext cx="2398680" cy="2178000"/>
            <a:chOff x="344520" y="3505320"/>
            <a:chExt cx="2398680" cy="2178000"/>
          </a:xfrm>
        </p:grpSpPr>
        <p:pic>
          <p:nvPicPr>
            <p:cNvPr id="347" name="" descr=""/>
            <p:cNvPicPr/>
            <p:nvPr/>
          </p:nvPicPr>
          <p:blipFill>
            <a:blip r:embed="rId4"/>
            <a:stretch/>
          </p:blipFill>
          <p:spPr>
            <a:xfrm flipH="1">
              <a:off x="344520" y="350532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600200" y="45720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419720" y="5486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244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35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35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 flipH="1">
            <a:off x="304560" y="411480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 - 5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962520" y="4419720"/>
            <a:ext cx="2398680" cy="2178000"/>
            <a:chOff x="3962520" y="4419720"/>
            <a:chExt cx="2398680" cy="2178000"/>
          </a:xfrm>
        </p:grpSpPr>
        <p:pic>
          <p:nvPicPr>
            <p:cNvPr id="367" name="" descr=""/>
            <p:cNvPicPr/>
            <p:nvPr/>
          </p:nvPicPr>
          <p:blipFill>
            <a:blip r:embed="rId4"/>
            <a:stretch/>
          </p:blipFill>
          <p:spPr>
            <a:xfrm flipH="1">
              <a:off x="3962520" y="441972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218200" y="54864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00200" y="51055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C 0.02639 -0.08172 0.05278 -0.1632 0.09306 -0.24885 C 0.13351 -0.3345 0.18021 -0.45741 0.24271 -0.51413 C 0.30521 -0.57084 0.4073 -0.59676 0.46806 -0.58959 C 0.52865 -0.58241 0.58125 -0.52315 0.60799 -0.47107 C 0.63473 -0.41899 0.62553 -0.3095 0.62917 -0.27709 E">
                                      <p:cBhvr>
                                        <p:cTn id="261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304920" y="2590920"/>
            <a:ext cx="3200040" cy="4052520"/>
            <a:chOff x="304920" y="2590920"/>
            <a:chExt cx="3200040" cy="405252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304920" y="2590920"/>
              <a:ext cx="2410920" cy="40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3"/>
            <a:stretch/>
          </p:blipFill>
          <p:spPr>
            <a:xfrm>
              <a:off x="2562480" y="5212080"/>
              <a:ext cx="942480" cy="143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8153280" y="62485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7997" y="3837"/>
                </a:moveTo>
                <a:lnTo>
                  <a:pt x="20573" y="6448"/>
                </a:ln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lnTo>
                  <a:pt x="24960" y="10800"/>
                </a:lnTo>
                <a:lnTo>
                  <a:pt x="23306" y="10800"/>
                </a:lnTo>
                <a:lnTo>
                  <a:pt x="23306" y="17989"/>
                </a:lnTo>
                <a:lnTo>
                  <a:pt x="12688" y="17989"/>
                </a:lnTo>
                <a:lnTo>
                  <a:pt x="12688" y="10800"/>
                </a:lnTo>
                <a:lnTo>
                  <a:pt x="11034" y="10800"/>
                </a:lnTo>
                <a:close/>
              </a:path>
              <a:path fill="darkenLess" w="35994" h="21600">
                <a:moveTo>
                  <a:pt x="20573" y="6448"/>
                </a:move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close/>
              </a:path>
              <a:path fill="darkenLess" w="35994" h="21600">
                <a:moveTo>
                  <a:pt x="17075" y="14299"/>
                </a:moveTo>
                <a:lnTo>
                  <a:pt x="18920" y="14299"/>
                </a:lnTo>
                <a:lnTo>
                  <a:pt x="18920" y="17989"/>
                </a:lnTo>
                <a:lnTo>
                  <a:pt x="23306" y="17989"/>
                </a:lnTo>
                <a:lnTo>
                  <a:pt x="23306" y="10800"/>
                </a:lnTo>
                <a:lnTo>
                  <a:pt x="12688" y="10800"/>
                </a:lnTo>
                <a:lnTo>
                  <a:pt x="12688" y="17989"/>
                </a:lnTo>
                <a:lnTo>
                  <a:pt x="17075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90920" y="182880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96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i="1" lang="en-US" sz="9600" spc="-1" strike="noStrike">
                <a:solidFill>
                  <a:srgbClr val="6666ff"/>
                </a:solidFill>
                <a:latin typeface="Arial"/>
              </a:rPr>
              <a:t>л</a:t>
            </a:r>
            <a:r>
              <a:rPr b="1" i="1" lang="en-US" sz="96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1" i="1" lang="en-US" sz="9600" spc="-1" strike="noStrike">
                <a:solidFill>
                  <a:srgbClr val="ff9900"/>
                </a:solidFill>
                <a:latin typeface="Arial"/>
              </a:rPr>
              <a:t>д</a:t>
            </a:r>
            <a:r>
              <a:rPr b="1" i="1" lang="en-US" sz="9600" spc="-1" strike="noStrike">
                <a:solidFill>
                  <a:srgbClr val="cc3399"/>
                </a:solidFill>
                <a:latin typeface="Arial"/>
              </a:rPr>
              <a:t>е</a:t>
            </a:r>
            <a:r>
              <a:rPr b="1" i="1" lang="en-US" sz="9600" spc="-1" strike="noStrike">
                <a:solidFill>
                  <a:srgbClr val="3333ff"/>
                </a:solidFill>
                <a:latin typeface="Arial"/>
              </a:rPr>
              <a:t>ц</a:t>
            </a:r>
            <a:r>
              <a:rPr b="1" i="1" lang="en-US" sz="9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5257800" y="3962520"/>
            <a:ext cx="22654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5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5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 flipH="1">
            <a:off x="2971440" y="44956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 + 3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4520" y="3505320"/>
            <a:ext cx="2398680" cy="2178000"/>
            <a:chOff x="344520" y="3505320"/>
            <a:chExt cx="2398680" cy="217800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 flipH="1">
              <a:off x="344520" y="350532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600200" y="45720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419720" y="53341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7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7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456840" y="3962520"/>
            <a:ext cx="1803240" cy="2025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 + 0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733920" y="4343400"/>
            <a:ext cx="2398680" cy="2178000"/>
            <a:chOff x="3733920" y="4343400"/>
            <a:chExt cx="2398680" cy="217800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 flipH="1">
              <a:off x="3733920" y="434340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989600" y="541008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752480" y="48769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C 0.02604 -0.08171 0.05208 -0.16319 0.09184 -0.24884 C 0.13177 -0.33449 0.17778 -0.4574 0.23958 -0.51412 C 0.30122 -0.57083 0.40191 -0.59676 0.46181 -0.58958 C 0.5217 -0.5824 0.57361 -0.52315 0.6 -0.47106 C 0.62639 -0.41898 0.61736 -0.30949 0.62083 -0.27708 E">
                                      <p:cBhvr>
                                        <p:cTn id="2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9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9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 flipH="1">
            <a:off x="380880" y="4191120"/>
            <a:ext cx="1803600" cy="2025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 - 4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86200" y="4343400"/>
            <a:ext cx="2398680" cy="2178000"/>
            <a:chOff x="3886200" y="4343400"/>
            <a:chExt cx="2398680" cy="2178000"/>
          </a:xfrm>
        </p:grpSpPr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 flipH="1">
              <a:off x="3886200" y="434340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1880" y="541008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600200" y="52578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6 C 0.02639 -0.08172 0.05278 -0.1632 0.09305 -0.24885 C 0.1335 -0.33449 0.18021 -0.45741 0.24271 -0.51412 C 0.30521 -0.57084 0.40729 -0.59676 0.46805 -0.58959 C 0.52864 -0.58241 0.58125 -0.52315 0.60798 -0.47107 C 0.63472 -0.41899 0.62552 -0.30949 0.62916 -0.27709 E">
                                      <p:cBhvr>
                                        <p:cTn id="4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11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11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flipH="1">
            <a:off x="2971440" y="44956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 + 6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44520" y="3505320"/>
            <a:ext cx="2398680" cy="2178000"/>
            <a:chOff x="344520" y="3505320"/>
            <a:chExt cx="2398680" cy="2178000"/>
          </a:xfrm>
        </p:grpSpPr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 flipH="1">
              <a:off x="344520" y="350532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600200" y="45720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267080" y="5486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57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13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13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 flipH="1">
            <a:off x="2971440" y="44956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 + 5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44520" y="3505320"/>
            <a:ext cx="2398680" cy="2178000"/>
            <a:chOff x="344520" y="3505320"/>
            <a:chExt cx="2398680" cy="217800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 flipH="1">
              <a:off x="344520" y="350532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600200" y="45720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343400" y="5486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7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15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15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 flipH="1">
            <a:off x="2971440" y="44956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 + 6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44520" y="3505320"/>
            <a:ext cx="2398680" cy="2178000"/>
            <a:chOff x="344520" y="3505320"/>
            <a:chExt cx="2398680" cy="2178000"/>
          </a:xfrm>
        </p:grpSpPr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 flipH="1">
              <a:off x="344520" y="350532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600200" y="45720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343400" y="5410080"/>
            <a:ext cx="1143000" cy="106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9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17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17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 flipH="1">
            <a:off x="304560" y="4267080"/>
            <a:ext cx="1803240" cy="2025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 - 7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76720" y="4114800"/>
            <a:ext cx="2398680" cy="2178000"/>
            <a:chOff x="3276720" y="4114800"/>
            <a:chExt cx="2398680" cy="217800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 flipH="1">
              <a:off x="3276720" y="411480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532400" y="518148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600200" y="53341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C 0.02709 -0.08172 0.05417 -0.1632 0.09549 -0.24885 C 0.13698 -0.33449 0.1849 -0.45741 0.24914 -0.51412 C 0.31337 -0.57084 0.41806 -0.59676 0.48021 -0.58959 C 0.54254 -0.58241 0.59653 -0.52315 0.62396 -0.47107 C 0.65139 -0.41898 0.64202 -0.30949 0.64566 -0.27709 E">
                                      <p:cBhvr>
                                        <p:cTn id="108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/>
            <a:ahLst/>
            <a:rect l="l" t="t" r="r" b="b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195" name="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196" name="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flipH="1">
            <a:off x="380880" y="4038480"/>
            <a:ext cx="1803600" cy="2025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43828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 + 3 =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81280" y="4343400"/>
            <a:ext cx="2398680" cy="2178000"/>
            <a:chOff x="3581280" y="4343400"/>
            <a:chExt cx="2398680" cy="2178000"/>
          </a:xfrm>
        </p:grpSpPr>
        <p:pic>
          <p:nvPicPr>
            <p:cNvPr id="207" name="" descr=""/>
            <p:cNvPicPr/>
            <p:nvPr/>
          </p:nvPicPr>
          <p:blipFill>
            <a:blip r:embed="rId4"/>
            <a:stretch/>
          </p:blipFill>
          <p:spPr>
            <a:xfrm flipH="1">
              <a:off x="3581280" y="434340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836960" y="541008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600200" y="5181480"/>
            <a:ext cx="1143000" cy="106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C 0.02586 -0.08171 0.05191 -0.16319 0.09166 -0.24884 C 0.13142 -0.33449 0.17743 -0.4574 0.23906 -0.51412 C 0.30052 -0.57083 0.40104 -0.59676 0.46076 -0.58958 C 0.52066 -0.5824 0.57222 -0.52314 0.59861 -0.47106 C 0.625 -0.41898 0.61597 -0.30949 0.61961 -0.27708 E">
                                      <p:cBhvr>
                                        <p:cTn id="125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4-08T16:51:2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